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F066-AA5D-4D1A-8B48-9D997F7B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131-5815-4209-BBD8-E80232CD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849-33E2-480D-BABB-0E67F3C1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D6B-25B6-4546-BFA3-AD093EDD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8BF-24E0-43D1-9493-52181701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4A5-EB3A-4502-8F50-0712D59A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771-BBF7-4F8A-9F96-867C98DD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D2E-49B5-4D65-A73D-ACBF76C7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31B-C3E4-4484-8039-9C1BCB37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314-E968-401D-8775-87B6B524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1F0-11AB-4A92-AFA1-6B2DEB82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BD6-3A4B-419F-A4C8-287E347A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2241-172B-4AF3-992B-E334AC2B97A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044720" y="907920"/>
            <a:ext cx="727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혈액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성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교육방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그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51240" y="490680"/>
            <a:ext cx="219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심 있거나 궁금했던 것을 단어로 써넣으세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042920" y="2130480"/>
            <a:ext cx="2089080" cy="39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735920" y="1773360"/>
            <a:ext cx="30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위의 단어들 중 관련 지어 생각해보고 싶은 것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지 고르세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5435640" y="2130480"/>
            <a:ext cx="2089080" cy="39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635280" y="2130480"/>
            <a:ext cx="1224000" cy="3952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650960" y="2781360"/>
            <a:ext cx="24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택된 두 단어를 이용한 연구문제를 만들어 보세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1042920" y="3138480"/>
            <a:ext cx="7201080" cy="51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650960" y="3789360"/>
            <a:ext cx="24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위의 두 단어를 무엇으로 측정할 것인지 결정하세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1042920" y="4141800"/>
            <a:ext cx="1944720" cy="51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독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4932360" y="4141800"/>
            <a:ext cx="1944720" cy="51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종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1627560" y="4724280"/>
            <a:ext cx="220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측정 변인의 성질에 따라 분석방법을 결정하세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1042920" y="5076720"/>
            <a:ext cx="1944720" cy="51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4932360" y="5076720"/>
            <a:ext cx="1944720" cy="51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2857680" y="5877000"/>
            <a:ext cx="2160360" cy="51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06:43:37Z</dcterms:created>
  <dc:creator>DESKTOP</dc:creator>
  <dc:description/>
  <dc:language>en-US</dc:language>
  <cp:lastModifiedBy>snoopy</cp:lastModifiedBy>
  <dcterms:modified xsi:type="dcterms:W3CDTF">2009-08-17T08:37:16Z</dcterms:modified>
  <cp:revision>4</cp:revision>
  <dc:subject/>
  <dc:title>슬라이드 1</dc:title>
</cp:coreProperties>
</file>